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F29A-FA6E-4421-924D-57E711E4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CF26-B5B8-4E9B-B4A0-28873D2B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14B10-B2CC-4D8B-933C-61486F6F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15843-278E-47F8-9380-51DEA8D6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4EBE1-434E-41F7-83B5-E5B1E412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6F412-E7E8-42FC-9BD9-70171EB8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83E48-0A93-444F-AC6A-5F36C97D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A0DCE-62BB-4971-8548-340358FD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3D5C4-D6B1-4E76-AA4A-3EAA6B1B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28D67-04C2-449B-B380-E26CD3BB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7B884-B9CB-4030-A314-2E20F1BD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7D2FB-CC58-44BA-AFA4-17760B83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1EB4-0BEF-4E05-B88D-995CBEC3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A7208-5FF5-4853-9AA4-02716538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D9C55-D5FC-4398-8121-34AEFD7B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86057-B1E3-4086-9E0D-8842E511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30E35-615B-473F-88EB-195D73D3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54C6F-EC2B-41D3-A818-8D67A39F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1E5F8-FEEA-4403-AED3-E6BCCE88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CF233-09C9-4865-9326-60775589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655DA-6506-4E76-933A-0AB0E1D1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DC432-A029-47ED-A839-A539CD3B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30218-F827-446E-833A-13AFBA31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E32B-02F4-44D7-BABC-1C3AFDC6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7B044-A627-4EA1-82F3-3C782DAB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50C3-62EC-4BAB-86CB-65A7E056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502D-960B-4F6F-AFE8-961432A8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4451-F140-4EA6-87F9-1E792EC1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244D-ABFF-43B8-9E61-DD688EDB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D720-459F-458C-AEE3-B832154F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9F13-337D-4031-8890-01CC023C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432A-E9C3-4044-84E2-311A10B8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4766-0468-4876-B92B-C1975CF3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3DF7-9911-482A-AA66-2A569A0E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DC31-FB79-4B75-A150-715F5038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811A-E282-4F0B-B1AC-513BA087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1697-EDC2-497D-BFF4-8A98467C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E875-1D1D-4DA9-A05C-D4A1730F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710DE-36D0-4BC6-95B7-8080B73B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317AE-E9E7-45DA-8577-7D018523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4BBE0-5E05-4D3D-B236-4F40EE5E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52488-EE93-4848-8B04-AF52C25E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5D232-F0C7-4F42-BC8F-1AB981CE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A371-0BCC-462B-881E-38AC656B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7DEF2-2BBB-40CD-8BB3-0001D980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254D9-1524-4EBD-935E-1DC8C73C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6D554-9471-4D1B-8938-1EAC55CD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F5B24-12B6-470A-B64B-2F47398F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53C7E-A443-43F7-9FB4-27262792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CE173-D2B6-4B79-88B1-B5B006ED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A9A0D-2F2E-4D68-9092-0443650C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25791-55DB-4AF5-9275-BFCC40BD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F3091-A2FB-4877-905A-DE8DF934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17DFD-6EFF-488B-86C1-F074DE94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D70C-92CC-46E2-8D24-C76C7644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F0ED0-4930-467B-A9B4-BA409644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D521F-2D18-4B04-8DD2-EEA5069A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A1360-5054-44FB-9CB0-5A9C3C3C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EC585-12D2-4F76-8ACA-BA469D8A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2A435-BC06-460C-9793-21414F57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D4533-DD09-43E7-B010-B040DEC1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59A28-8EE6-4071-B7A3-BF7C077D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0C685-B82D-4F8F-A831-A993BF3D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7DA5F-0178-4699-8BCA-62A5F2EB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A6D5E-F4C5-4AC0-A0BC-23953637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F4E-5397-42D5-B856-4BBFBFB1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E9A70-B031-496D-AACC-42030A24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512FB-9625-4B8F-A20C-6A94163C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2C5A0-C23C-48FF-91A5-897FAC86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90002-306C-4F42-AAB0-016EF855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C0CCA-DC1C-4A58-8CF1-855567E9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6B3E7-559B-4EE1-A076-2DC47386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743FC-C12C-42EF-A09D-ED2DAA36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F3762-DABB-48D7-B726-7AD1AAEC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AF710-C625-4790-AB2F-C28E346C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29922-6383-4820-97A5-10CFEE1A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C59F-F747-41B9-82DC-6E4DC5B3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C4C03-9D2C-48F2-A140-92F1C78B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74ED5-CA5F-4ECE-9D88-A8A4C3F3A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FE486-CA6D-4C1A-9D2E-188317E5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F8157-0A19-482D-8D22-A9CE6361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32A5E-3F48-4716-BA7D-1DE047B9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71C1D-2E16-418E-9593-3E5F3C6B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58A24-E318-452A-99E9-2A92AD85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C081D-38D6-4131-BA93-1CE2504D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85AC5-D2F0-4984-99BE-C8D268D2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961CF-05C0-4BC8-9078-C6E38977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B8C6-9028-4CEF-B32E-B3A364D6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C2955-CA90-4195-A626-29EB6ECC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461EE-C846-4399-A686-7C7DC190C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BF168-DDE7-4EE3-A7C2-ABB7771D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1E290-60DB-43DF-8CEF-AEDD7DF2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5008D-E155-451B-8D40-3318B9A2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9A465-F998-4435-BA99-BD187CBC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E9FD4-7218-4905-996D-D90B1869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831DA-070F-45AC-9C3A-88FD541C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557C5-8678-40B9-97AF-6B1EF84E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24C32-2F82-4EE4-A2E8-59DAD5DD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F5D3-57EB-4D64-9674-7E12ABD7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12643-EB75-48AB-9A04-B99E329A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7D67C-5EB2-4B64-897D-71705C5C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2C9C8-FB2D-4FFC-BD8B-DF233D41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CB190-7E02-4831-A58B-AFD27DDD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17B51-5117-4C84-B4EF-18E23BE1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E0D11-7CFB-4C38-8DD2-98F97074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2FA41-EB8C-48BC-9C98-756AD889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1ACBC-561B-42CC-ABA7-6A900C77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C1FEC-FB9B-4D2B-8A95-62684DA0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C5AD4-EA3F-4057-AD9A-CAC58099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91F-FCBC-420C-9983-5880BF36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81CE9-B11A-4860-87E3-70FBBA81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638BB-1045-446B-9530-09F55F0D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58B42-787E-423C-8959-EEA3AA21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9E0E1-D705-493F-BB92-8CCFF98E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A9CBA-AA40-497A-AD7A-C8CA1EAF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C5F1F-0996-44EB-A6CD-9CD9C3D6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74169-B0CB-4425-A59B-7DDC0FD7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442D8-59B2-46FA-ADE6-952F7432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258D6-947A-4365-BB50-99B90C95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25C76-679F-4BC0-8570-FEE6E8ED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D54A-D001-42CD-91FC-4224D73C6BA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9853-9607-484A-B91D-46A31D2A0C6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9F79-675C-4278-8260-236E7A5CFB4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4EBA-A9AC-433E-B2B5-DC3EF0E4A74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F739-8793-43AD-B460-1095A6D970C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0178-99F6-4A0F-BD0D-0727072AA34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4CFF-908C-4DD1-8E5F-41ADDDFDFF5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295C-8C4C-49A1-A342-E71D71D388B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249D-30A5-4A29-AD70-F64E2559CEF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E824-92D6-4E28-AF7E-B9EA8BC285B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6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사과가 있습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 있습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	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도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	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는 없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라디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텔레비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풍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에어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언니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남동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여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4" descr=""/>
          <p:cNvPicPr/>
          <p:nvPr/>
        </p:nvPicPr>
        <p:blipFill>
          <a:blip r:embed="rId1"/>
          <a:stretch/>
        </p:blipFill>
        <p:spPr>
          <a:xfrm>
            <a:off x="5364000" y="388152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리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사과가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있습니까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=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팝니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주머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리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배도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주머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배는 없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사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p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있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be verb), exist,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주머니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married) woman 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저씨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m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배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p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없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be no, do not exist, have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 also, ~ too; a subject post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책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것도 책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나는 한국말을 압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중국말도 압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학교에서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집에서도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창문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연필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penci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시간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운동화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sneak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냉면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Naengmye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소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Soj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라디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radio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선풍기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electric fa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언니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elder sis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남동생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younger broth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담배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igarett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약속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promi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볼펜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all pe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돈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맥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e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카드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ar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텔레비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elevis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에어컨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air-condition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오빠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elder broth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여동생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younger sis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없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창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담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연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약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2556000" y="27385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"/>
          <p:cNvPicPr/>
          <p:nvPr/>
        </p:nvPicPr>
        <p:blipFill>
          <a:blip r:embed="rId2"/>
          <a:stretch/>
        </p:blipFill>
        <p:spPr>
          <a:xfrm>
            <a:off x="4946760" y="2732040"/>
            <a:ext cx="2209680" cy="14889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"/>
          <p:cNvPicPr/>
          <p:nvPr/>
        </p:nvPicPr>
        <p:blipFill>
          <a:blip r:embed="rId3"/>
          <a:stretch/>
        </p:blipFill>
        <p:spPr>
          <a:xfrm>
            <a:off x="6986520" y="2489040"/>
            <a:ext cx="2162160" cy="21146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"/>
          <p:cNvPicPr/>
          <p:nvPr/>
        </p:nvPicPr>
        <p:blipFill>
          <a:blip r:embed="rId4"/>
          <a:stretch/>
        </p:blipFill>
        <p:spPr>
          <a:xfrm>
            <a:off x="2575080" y="482760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"/>
          <p:cNvPicPr/>
          <p:nvPr/>
        </p:nvPicPr>
        <p:blipFill>
          <a:blip r:embed="rId5"/>
          <a:stretch/>
        </p:blipFill>
        <p:spPr>
          <a:xfrm>
            <a:off x="5292720" y="4627440"/>
            <a:ext cx="2114640" cy="2162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없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과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안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9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"/>
          <p:cNvPicPr/>
          <p:nvPr/>
        </p:nvPicPr>
        <p:blipFill>
          <a:blip r:embed="rId2"/>
          <a:stretch/>
        </p:blipFill>
        <p:spPr>
          <a:xfrm>
            <a:off x="5202360" y="3419640"/>
            <a:ext cx="1987560" cy="13046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1" descr=""/>
          <p:cNvPicPr/>
          <p:nvPr/>
        </p:nvPicPr>
        <p:blipFill>
          <a:blip r:embed="rId3"/>
          <a:stretch/>
        </p:blipFill>
        <p:spPr>
          <a:xfrm>
            <a:off x="6918480" y="3419640"/>
            <a:ext cx="2185920" cy="14349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2" descr=""/>
          <p:cNvPicPr/>
          <p:nvPr/>
        </p:nvPicPr>
        <p:blipFill>
          <a:blip r:embed="rId4"/>
          <a:stretch/>
        </p:blipFill>
        <p:spPr>
          <a:xfrm>
            <a:off x="2603520" y="5219640"/>
            <a:ext cx="2952720" cy="15526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3" descr=""/>
          <p:cNvPicPr/>
          <p:nvPr/>
        </p:nvPicPr>
        <p:blipFill>
          <a:blip r:embed="rId5"/>
          <a:stretch/>
        </p:blipFill>
        <p:spPr>
          <a:xfrm>
            <a:off x="5796000" y="494172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  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도 있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연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볼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상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의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구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운동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3443400" y="2205000"/>
            <a:ext cx="2017440" cy="1511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"/>
          <p:cNvPicPr/>
          <p:nvPr/>
        </p:nvPicPr>
        <p:blipFill>
          <a:blip r:embed="rId2"/>
          <a:stretch/>
        </p:blipFill>
        <p:spPr>
          <a:xfrm>
            <a:off x="5508720" y="2185920"/>
            <a:ext cx="1590480" cy="1656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" descr=""/>
          <p:cNvPicPr/>
          <p:nvPr/>
        </p:nvPicPr>
        <p:blipFill>
          <a:blip r:embed="rId3"/>
          <a:stretch/>
        </p:blipFill>
        <p:spPr>
          <a:xfrm>
            <a:off x="7093080" y="2185920"/>
            <a:ext cx="1946160" cy="14572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7" descr=""/>
          <p:cNvPicPr/>
          <p:nvPr/>
        </p:nvPicPr>
        <p:blipFill>
          <a:blip r:embed="rId4"/>
          <a:stretch/>
        </p:blipFill>
        <p:spPr>
          <a:xfrm>
            <a:off x="3467160" y="3749760"/>
            <a:ext cx="1511280" cy="11523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"/>
          <p:cNvPicPr/>
          <p:nvPr/>
        </p:nvPicPr>
        <p:blipFill>
          <a:blip r:embed="rId5"/>
          <a:stretch/>
        </p:blipFill>
        <p:spPr>
          <a:xfrm>
            <a:off x="3443400" y="4894200"/>
            <a:ext cx="1558800" cy="1189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"/>
          <p:cNvPicPr/>
          <p:nvPr/>
        </p:nvPicPr>
        <p:blipFill>
          <a:blip r:embed="rId6"/>
          <a:stretch/>
        </p:blipFill>
        <p:spPr>
          <a:xfrm>
            <a:off x="5219640" y="43322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불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맥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소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편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카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8" descr=""/>
          <p:cNvPicPr/>
          <p:nvPr/>
        </p:nvPicPr>
        <p:blipFill>
          <a:blip r:embed="rId1"/>
          <a:stretch/>
        </p:blipFill>
        <p:spPr>
          <a:xfrm>
            <a:off x="4500720" y="2766960"/>
            <a:ext cx="2171520" cy="21049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9" descr=""/>
          <p:cNvPicPr/>
          <p:nvPr/>
        </p:nvPicPr>
        <p:blipFill>
          <a:blip r:embed="rId2"/>
          <a:stretch/>
        </p:blipFill>
        <p:spPr>
          <a:xfrm>
            <a:off x="6676920" y="2766960"/>
            <a:ext cx="1233720" cy="9241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0" descr=""/>
          <p:cNvPicPr/>
          <p:nvPr/>
        </p:nvPicPr>
        <p:blipFill>
          <a:blip r:embed="rId3"/>
          <a:stretch/>
        </p:blipFill>
        <p:spPr>
          <a:xfrm>
            <a:off x="6683400" y="3691080"/>
            <a:ext cx="1233360" cy="9237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1" descr=""/>
          <p:cNvPicPr/>
          <p:nvPr/>
        </p:nvPicPr>
        <p:blipFill>
          <a:blip r:embed="rId4"/>
          <a:stretch/>
        </p:blipFill>
        <p:spPr>
          <a:xfrm>
            <a:off x="4500720" y="4756320"/>
            <a:ext cx="1218960" cy="20509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2" descr=""/>
          <p:cNvPicPr/>
          <p:nvPr/>
        </p:nvPicPr>
        <p:blipFill>
          <a:blip r:embed="rId5"/>
          <a:stretch/>
        </p:blipFill>
        <p:spPr>
          <a:xfrm>
            <a:off x="6516720" y="4703760"/>
            <a:ext cx="1558800" cy="1797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1-05T15:57:37Z</dcterms:modified>
  <cp:revision>95</cp:revision>
  <dc:subject/>
  <dc:title>KOREAN LANGUAGE</dc:title>
</cp:coreProperties>
</file>